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62F-BF19-4704-AFEE-EF0361F7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D7DD-B9E9-4E36-8E8C-BB4A820B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AFCC-4BC9-45FF-978E-79515050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5FE-AEE0-43C2-AE0B-3C49A04E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182E-0B43-402A-8A6D-3E903135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DAA-DF96-4E88-9C48-D12DDD76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0084-BA08-4240-8DD3-C65C71C8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B9A-374B-4A2C-BBDE-A6E88589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493A-FAB7-44FC-957B-7AF70A27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7604-8028-4398-8591-DB8DE4D2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782-E02E-4F26-A36E-C75C05AA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FCA3-E4AE-4655-8F16-BB506651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B14D-1A12-4508-9487-35F4A3B53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1676520" cy="1447920"/>
            <a:chOff x="0" y="0"/>
            <a:chExt cx="1676520" cy="1447920"/>
          </a:xfrm>
        </p:grpSpPr>
        <p:sp>
          <p:nvSpPr>
            <p:cNvPr id="42" name=""/>
            <p:cNvSpPr/>
            <p:nvPr/>
          </p:nvSpPr>
          <p:spPr>
            <a:xfrm>
              <a:off x="380880" y="304920"/>
              <a:ext cx="1295640" cy="11095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appCV05" descr=""/>
            <p:cNvPicPr/>
            <p:nvPr/>
          </p:nvPicPr>
          <p:blipFill>
            <a:blip r:embed="rId1"/>
            <a:stretch/>
          </p:blipFill>
          <p:spPr>
            <a:xfrm>
              <a:off x="380880" y="380880"/>
              <a:ext cx="1219320" cy="9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0" y="0"/>
              <a:ext cx="1676520" cy="1447920"/>
              <a:chOff x="0" y="0"/>
              <a:chExt cx="1676520" cy="1447920"/>
            </a:xfrm>
          </p:grpSpPr>
          <p:sp>
            <p:nvSpPr>
              <p:cNvPr id="45" name=""/>
              <p:cNvSpPr/>
              <p:nvPr/>
            </p:nvSpPr>
            <p:spPr>
              <a:xfrm flipV="1">
                <a:off x="186120" y="0"/>
                <a:ext cx="0" cy="144792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0" y="180000"/>
                <a:ext cx="1676520" cy="108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" name=""/>
          <p:cNvGrpSpPr/>
          <p:nvPr/>
        </p:nvGrpSpPr>
        <p:grpSpPr>
          <a:xfrm>
            <a:off x="7619760" y="4876920"/>
            <a:ext cx="2057400" cy="1828800"/>
            <a:chOff x="7619760" y="4876920"/>
            <a:chExt cx="2057400" cy="1828800"/>
          </a:xfrm>
        </p:grpSpPr>
        <p:sp>
          <p:nvSpPr>
            <p:cNvPr id="48" name=""/>
            <p:cNvSpPr/>
            <p:nvPr/>
          </p:nvSpPr>
          <p:spPr>
            <a:xfrm>
              <a:off x="9448920" y="4876920"/>
              <a:ext cx="0" cy="182880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619760" y="6477120"/>
              <a:ext cx="2057400" cy="14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5562720" y="1371600"/>
            <a:ext cx="3836880" cy="76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42552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ОБЪЕДИ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"ЯБЛОКО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23880" y="2362320"/>
            <a:ext cx="7467480" cy="2562840"/>
            <a:chOff x="1523880" y="2362320"/>
            <a:chExt cx="7467480" cy="2562840"/>
          </a:xfrm>
        </p:grpSpPr>
        <p:sp>
          <p:nvSpPr>
            <p:cNvPr id="53" name=""/>
            <p:cNvSpPr/>
            <p:nvPr/>
          </p:nvSpPr>
          <p:spPr>
            <a:xfrm>
              <a:off x="1523880" y="2362320"/>
              <a:ext cx="74674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cc"/>
                  </a:solidFill>
                  <a:latin typeface="Arial"/>
                  <a:ea typeface="Arial"/>
                </a:rPr>
                <a:t>АЛЬТЕРНАТИВНЫЙ БЮДЖЕТ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cc"/>
                  </a:solidFill>
                  <a:latin typeface="Arial"/>
                </a:rPr>
                <a:t>НА 2002 ГОД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3880" y="2362320"/>
              <a:ext cx="74674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9966ff"/>
                  </a:solidFill>
                  <a:latin typeface="Arial"/>
                  <a:ea typeface="Arial"/>
                </a:rPr>
                <a:t>АЛЬТЕРНАТИВНЫЙ БЮДЖЕТ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9966ff"/>
                  </a:solidFill>
                  <a:latin typeface="Arial"/>
                </a:rPr>
                <a:t>НА 2002 ГОД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7014240" y="594360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ентябрь 2001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5760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ложения по направлени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полнительных доходов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результате уточнения прогноза на 2002 г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8420040" cy="31766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0" y="0"/>
            <a:ext cx="9677160" cy="6705720"/>
            <a:chOff x="0" y="0"/>
            <a:chExt cx="9677160" cy="6705720"/>
          </a:xfrm>
        </p:grpSpPr>
        <p:sp>
          <p:nvSpPr>
            <p:cNvPr id="166" name=""/>
            <p:cNvSpPr/>
            <p:nvPr/>
          </p:nvSpPr>
          <p:spPr>
            <a:xfrm>
              <a:off x="382680" y="304920"/>
              <a:ext cx="1293840" cy="11095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appCV05" descr=""/>
            <p:cNvPicPr/>
            <p:nvPr/>
          </p:nvPicPr>
          <p:blipFill>
            <a:blip r:embed="rId2"/>
            <a:stretch/>
          </p:blipFill>
          <p:spPr>
            <a:xfrm>
              <a:off x="382680" y="380880"/>
              <a:ext cx="1217520" cy="9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"/>
            <p:cNvGrpSpPr/>
            <p:nvPr/>
          </p:nvGrpSpPr>
          <p:grpSpPr>
            <a:xfrm>
              <a:off x="0" y="0"/>
              <a:ext cx="1676520" cy="1447920"/>
              <a:chOff x="0" y="0"/>
              <a:chExt cx="1676520" cy="1447920"/>
            </a:xfrm>
          </p:grpSpPr>
          <p:sp>
            <p:nvSpPr>
              <p:cNvPr id="169" name=""/>
              <p:cNvSpPr/>
              <p:nvPr/>
            </p:nvSpPr>
            <p:spPr>
              <a:xfrm flipV="1">
                <a:off x="186120" y="0"/>
                <a:ext cx="0" cy="144792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0" y="180000"/>
                <a:ext cx="1676520" cy="108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7619760" y="4876920"/>
              <a:ext cx="2057400" cy="1828800"/>
              <a:chOff x="7619760" y="4876920"/>
              <a:chExt cx="2057400" cy="1828800"/>
            </a:xfrm>
          </p:grpSpPr>
          <p:sp>
            <p:nvSpPr>
              <p:cNvPr id="172" name=""/>
              <p:cNvSpPr/>
              <p:nvPr/>
            </p:nvSpPr>
            <p:spPr>
              <a:xfrm>
                <a:off x="9448920" y="4876920"/>
                <a:ext cx="0" cy="182880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7619760" y="6477120"/>
                <a:ext cx="2057400" cy="144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962520" y="1371600"/>
              <a:ext cx="543852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fcc99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917200" y="5867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99"/>
                  </a:solidFill>
                  <a:latin typeface="Arial"/>
                  <a:ea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66720" y="228240"/>
            <a:ext cx="4953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я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ежбюджетных отношен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1143000"/>
            <a:ext cx="7924680" cy="48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>
              <a:lnSpc>
                <a:spcPct val="100000"/>
              </a:lnSpc>
              <a:spcAft>
                <a:spcPts val="400"/>
              </a:spcAft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компенсации выпадающих доходов территориальных бюджетов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бходимо изменить пропорции распределения следующих налого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емельного налога - 100% в территориальные бюджеты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 них 80% - в местны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+ 4 830,4 млн. рублей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ендной платы за землю городов и поселков - 100%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+ 4 393,4 млн. рублей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лог на игорный бизнес - 100%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+1 009,2 млн.рублей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ДС по товарам (работам, услугам), производимым на территории РФ - 5% в  (+28 247,0 млн.рублей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 же необходимо увеличить объем средств, передаваемых муниципальным образованиям для предоставления жилищных субсидий населению по оплате жилья и коммунальных услуг, что особенно важно в условиях проведения жилищно-коммунальной реформ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разделу «Финансовая помощь бюджетам других уровней» для муниципальных образований дополнительно предусматривает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393 млн. рубл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2680" y="304920"/>
            <a:ext cx="1293840" cy="1109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appCV05" descr=""/>
          <p:cNvPicPr/>
          <p:nvPr/>
        </p:nvPicPr>
        <p:blipFill>
          <a:blip r:embed="rId1"/>
          <a:stretch/>
        </p:blipFill>
        <p:spPr>
          <a:xfrm>
            <a:off x="382680" y="380880"/>
            <a:ext cx="1217520" cy="90504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0" y="0"/>
            <a:ext cx="1676520" cy="1447920"/>
            <a:chOff x="0" y="0"/>
            <a:chExt cx="1676520" cy="1447920"/>
          </a:xfrm>
        </p:grpSpPr>
        <p:sp>
          <p:nvSpPr>
            <p:cNvPr id="181" name=""/>
            <p:cNvSpPr/>
            <p:nvPr/>
          </p:nvSpPr>
          <p:spPr>
            <a:xfrm flipV="1">
              <a:off x="186120" y="0"/>
              <a:ext cx="0" cy="144792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0" y="180000"/>
              <a:ext cx="1676520" cy="108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619760" y="4876920"/>
            <a:ext cx="2057400" cy="1828800"/>
            <a:chOff x="7619760" y="4876920"/>
            <a:chExt cx="2057400" cy="1828800"/>
          </a:xfrm>
        </p:grpSpPr>
        <p:sp>
          <p:nvSpPr>
            <p:cNvPr id="184" name=""/>
            <p:cNvSpPr/>
            <p:nvPr/>
          </p:nvSpPr>
          <p:spPr>
            <a:xfrm>
              <a:off x="9448920" y="4876920"/>
              <a:ext cx="0" cy="182880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619760" y="6477120"/>
              <a:ext cx="2057400" cy="14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4191120" y="914400"/>
            <a:ext cx="5286240" cy="76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840880" y="5867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  <a:ea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ТОГО дополнительно +44 873 млн. рублей для бюджетов регионов и 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29200" y="53316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менение доходов</a:t>
            </a:r>
            <a:br>
              <a:rPr sz="28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федерального бюдже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8007480" cy="477180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0" y="0"/>
            <a:ext cx="9677160" cy="6705720"/>
            <a:chOff x="0" y="0"/>
            <a:chExt cx="9677160" cy="6705720"/>
          </a:xfrm>
        </p:grpSpPr>
        <p:sp>
          <p:nvSpPr>
            <p:cNvPr id="192" name=""/>
            <p:cNvSpPr/>
            <p:nvPr/>
          </p:nvSpPr>
          <p:spPr>
            <a:xfrm>
              <a:off x="382680" y="304920"/>
              <a:ext cx="1293840" cy="11095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" name="appCV05" descr=""/>
            <p:cNvPicPr/>
            <p:nvPr/>
          </p:nvPicPr>
          <p:blipFill>
            <a:blip r:embed="rId2"/>
            <a:stretch/>
          </p:blipFill>
          <p:spPr>
            <a:xfrm>
              <a:off x="382680" y="380880"/>
              <a:ext cx="1217520" cy="9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4" name=""/>
            <p:cNvGrpSpPr/>
            <p:nvPr/>
          </p:nvGrpSpPr>
          <p:grpSpPr>
            <a:xfrm>
              <a:off x="0" y="0"/>
              <a:ext cx="1676520" cy="1447920"/>
              <a:chOff x="0" y="0"/>
              <a:chExt cx="1676520" cy="1447920"/>
            </a:xfrm>
          </p:grpSpPr>
          <p:sp>
            <p:nvSpPr>
              <p:cNvPr id="195" name=""/>
              <p:cNvSpPr/>
              <p:nvPr/>
            </p:nvSpPr>
            <p:spPr>
              <a:xfrm flipV="1">
                <a:off x="186120" y="0"/>
                <a:ext cx="0" cy="144792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0" y="180000"/>
                <a:ext cx="1676520" cy="108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619760" y="4876920"/>
              <a:ext cx="2057400" cy="1828800"/>
              <a:chOff x="7619760" y="4876920"/>
              <a:chExt cx="2057400" cy="1828800"/>
            </a:xfrm>
          </p:grpSpPr>
          <p:sp>
            <p:nvSpPr>
              <p:cNvPr id="198" name=""/>
              <p:cNvSpPr/>
              <p:nvPr/>
            </p:nvSpPr>
            <p:spPr>
              <a:xfrm>
                <a:off x="9448920" y="4876920"/>
                <a:ext cx="0" cy="182880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7619760" y="6477120"/>
                <a:ext cx="2057400" cy="144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3962520" y="1371600"/>
              <a:ext cx="543852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fcc99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917200" y="586728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99"/>
                  </a:solidFill>
                  <a:latin typeface="Arial"/>
                  <a:ea typeface="Arial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66720" y="22860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ы федерального бюдж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666880" y="685800"/>
          <a:ext cx="6050160" cy="556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685800"/>
                    <a:ext cx="6050160" cy="55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382680" y="304920"/>
            <a:ext cx="1293840" cy="1109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appCV05" descr=""/>
          <p:cNvPicPr/>
          <p:nvPr/>
        </p:nvPicPr>
        <p:blipFill>
          <a:blip r:embed="rId3"/>
          <a:stretch/>
        </p:blipFill>
        <p:spPr>
          <a:xfrm>
            <a:off x="382680" y="380880"/>
            <a:ext cx="1217520" cy="90504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0" y="0"/>
            <a:ext cx="1676520" cy="1447920"/>
            <a:chOff x="0" y="0"/>
            <a:chExt cx="1676520" cy="1447920"/>
          </a:xfrm>
        </p:grpSpPr>
        <p:sp>
          <p:nvSpPr>
            <p:cNvPr id="208" name=""/>
            <p:cNvSpPr/>
            <p:nvPr/>
          </p:nvSpPr>
          <p:spPr>
            <a:xfrm flipV="1">
              <a:off x="186120" y="0"/>
              <a:ext cx="0" cy="144792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0" y="180000"/>
              <a:ext cx="1676520" cy="108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7619760" y="4876920"/>
            <a:ext cx="2057400" cy="1828800"/>
            <a:chOff x="7619760" y="4876920"/>
            <a:chExt cx="2057400" cy="1828800"/>
          </a:xfrm>
        </p:grpSpPr>
        <p:sp>
          <p:nvSpPr>
            <p:cNvPr id="211" name=""/>
            <p:cNvSpPr/>
            <p:nvPr/>
          </p:nvSpPr>
          <p:spPr>
            <a:xfrm>
              <a:off x="9448920" y="4876920"/>
              <a:ext cx="0" cy="182880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619760" y="6477120"/>
              <a:ext cx="2057400" cy="14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038480" y="685800"/>
            <a:ext cx="5438880" cy="76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840880" y="5867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3049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циональная обор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838080"/>
            <a:ext cx="769644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spcAft>
                <a:spcPts val="601"/>
              </a:spcAft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величить средст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89 млрд. рублей - строительство и содержание Вооруженных Сил Российской Федера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3,7 млрд. руб - проведение Военной реформ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1,7 млрд.рублей - утилизация и ликвидация вооружени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2680" y="304920"/>
            <a:ext cx="1293840" cy="1109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appCV05" descr=""/>
          <p:cNvPicPr/>
          <p:nvPr/>
        </p:nvPicPr>
        <p:blipFill>
          <a:blip r:embed="rId1"/>
          <a:stretch/>
        </p:blipFill>
        <p:spPr>
          <a:xfrm>
            <a:off x="382680" y="380880"/>
            <a:ext cx="1217520" cy="90504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0" y="0"/>
            <a:ext cx="1676520" cy="1447920"/>
            <a:chOff x="0" y="0"/>
            <a:chExt cx="1676520" cy="1447920"/>
          </a:xfrm>
        </p:grpSpPr>
        <p:sp>
          <p:nvSpPr>
            <p:cNvPr id="221" name=""/>
            <p:cNvSpPr/>
            <p:nvPr/>
          </p:nvSpPr>
          <p:spPr>
            <a:xfrm flipV="1">
              <a:off x="186120" y="0"/>
              <a:ext cx="0" cy="144792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0" y="180000"/>
              <a:ext cx="1676520" cy="108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619760" y="4876920"/>
            <a:ext cx="2057400" cy="1828800"/>
            <a:chOff x="7619760" y="4876920"/>
            <a:chExt cx="2057400" cy="1828800"/>
          </a:xfrm>
        </p:grpSpPr>
        <p:sp>
          <p:nvSpPr>
            <p:cNvPr id="224" name=""/>
            <p:cNvSpPr/>
            <p:nvPr/>
          </p:nvSpPr>
          <p:spPr>
            <a:xfrm>
              <a:off x="9448920" y="4876920"/>
              <a:ext cx="0" cy="182880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619760" y="6477120"/>
              <a:ext cx="2057400" cy="14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191120" y="762120"/>
            <a:ext cx="5438520" cy="75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840880" y="5867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2438280"/>
            <a:ext cx="921996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 направить дополнительные сред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денежное довольствие военнослужащих рядового и сержантского состава, что позволит осуществить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ход в течение 2002 года на контрактную армию, с полным прекращением призы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3809880"/>
            <a:ext cx="838188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денежное довольствие военнослужащих с цель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ведения его уровня до уровня федеральных государственных служащи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продовольственное обеспечение военнослужащих с целью их полного обеспечения этим видом довольств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оплату и хранение специального топлива и горюче-смазочных материалов с целью обеспечения полномасштабной боевой подготовки войск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НИОКР, закупки вооружения и военной техники, ремонт вооружения и военной техники и капиталь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95320" y="30492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изменению финансового пла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514600" y="990720"/>
          <a:ext cx="5621400" cy="29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990720"/>
                    <a:ext cx="5621400" cy="29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609480" y="3962520"/>
            <a:ext cx="88329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едлагаемой Правительством РФ форме финансового план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4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отражены последствия изменений налоговой политик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оходах бюджет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4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таются скрытыми приоритетные направления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ходования бюджетных средств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4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понятно, каким образом учтена правительственная программа развития бюджетного федерализма в Российской Федерации на период до 2005 го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4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части политики управления долгом из формы исчезл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утренние и внешние источники финансировани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2680" y="304920"/>
            <a:ext cx="1293840" cy="1109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appCV05" descr=""/>
          <p:cNvPicPr/>
          <p:nvPr/>
        </p:nvPicPr>
        <p:blipFill>
          <a:blip r:embed="rId3"/>
          <a:stretch/>
        </p:blipFill>
        <p:spPr>
          <a:xfrm>
            <a:off x="382680" y="380880"/>
            <a:ext cx="1217520" cy="90504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0" y="0"/>
            <a:ext cx="1676520" cy="1447920"/>
            <a:chOff x="0" y="0"/>
            <a:chExt cx="1676520" cy="1447920"/>
          </a:xfrm>
        </p:grpSpPr>
        <p:sp>
          <p:nvSpPr>
            <p:cNvPr id="237" name=""/>
            <p:cNvSpPr/>
            <p:nvPr/>
          </p:nvSpPr>
          <p:spPr>
            <a:xfrm flipV="1">
              <a:off x="186120" y="0"/>
              <a:ext cx="0" cy="144792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0" y="180000"/>
              <a:ext cx="1676520" cy="108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619760" y="4876920"/>
            <a:ext cx="2057400" cy="1828800"/>
            <a:chOff x="7619760" y="4876920"/>
            <a:chExt cx="2057400" cy="1828800"/>
          </a:xfrm>
        </p:grpSpPr>
        <p:sp>
          <p:nvSpPr>
            <p:cNvPr id="240" name=""/>
            <p:cNvSpPr/>
            <p:nvPr/>
          </p:nvSpPr>
          <p:spPr>
            <a:xfrm>
              <a:off x="9448920" y="4876920"/>
              <a:ext cx="0" cy="182880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619760" y="6477120"/>
              <a:ext cx="2057400" cy="14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191120" y="914400"/>
            <a:ext cx="5438520" cy="76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840880" y="5867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76360" y="22860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лагаемая объединением «ЯБЛОКО»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одная форма финансового пла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7021440" cy="529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82680" y="304920"/>
            <a:ext cx="1293840" cy="1109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appCV05" descr=""/>
          <p:cNvPicPr/>
          <p:nvPr/>
        </p:nvPicPr>
        <p:blipFill>
          <a:blip r:embed="rId2"/>
          <a:stretch/>
        </p:blipFill>
        <p:spPr>
          <a:xfrm>
            <a:off x="382680" y="380880"/>
            <a:ext cx="1217520" cy="90504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0" y="0"/>
            <a:ext cx="1676520" cy="1447920"/>
            <a:chOff x="0" y="0"/>
            <a:chExt cx="1676520" cy="1447920"/>
          </a:xfrm>
        </p:grpSpPr>
        <p:sp>
          <p:nvSpPr>
            <p:cNvPr id="249" name=""/>
            <p:cNvSpPr/>
            <p:nvPr/>
          </p:nvSpPr>
          <p:spPr>
            <a:xfrm flipV="1">
              <a:off x="186120" y="0"/>
              <a:ext cx="0" cy="144792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0" y="180000"/>
              <a:ext cx="1676520" cy="108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619760" y="4876920"/>
            <a:ext cx="2057400" cy="1828800"/>
            <a:chOff x="7619760" y="4876920"/>
            <a:chExt cx="2057400" cy="1828800"/>
          </a:xfrm>
        </p:grpSpPr>
        <p:sp>
          <p:nvSpPr>
            <p:cNvPr id="252" name=""/>
            <p:cNvSpPr/>
            <p:nvPr/>
          </p:nvSpPr>
          <p:spPr>
            <a:xfrm>
              <a:off x="9448920" y="4876920"/>
              <a:ext cx="0" cy="182880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619760" y="6477120"/>
              <a:ext cx="2057400" cy="14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429000" y="762120"/>
            <a:ext cx="5438880" cy="75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840880" y="5867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85840" y="60948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спективный финансовый пл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76520" y="1523880"/>
            <a:ext cx="754380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190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ансовый план кроме сводной формы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должен содержать следующие прилож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ноз по доходным источника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дерального бюдже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ноз консолидированного бюджет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йской Федер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ональная структура расходо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дерального  бюдже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долга Российской Федер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 финансирования дефицита бюдже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2680" y="304920"/>
            <a:ext cx="1293840" cy="1109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appCV05" descr=""/>
          <p:cNvPicPr/>
          <p:nvPr/>
        </p:nvPicPr>
        <p:blipFill>
          <a:blip r:embed="rId1"/>
          <a:stretch/>
        </p:blipFill>
        <p:spPr>
          <a:xfrm>
            <a:off x="382680" y="380880"/>
            <a:ext cx="1217520" cy="905040"/>
          </a:xfrm>
          <a:prstGeom prst="rect">
            <a:avLst/>
          </a:prstGeom>
          <a:ln w="0">
            <a:noFill/>
          </a:ln>
        </p:spPr>
      </p:pic>
      <p:grpSp>
        <p:nvGrpSpPr>
          <p:cNvPr id="260" name=""/>
          <p:cNvGrpSpPr/>
          <p:nvPr/>
        </p:nvGrpSpPr>
        <p:grpSpPr>
          <a:xfrm>
            <a:off x="0" y="0"/>
            <a:ext cx="1676520" cy="1447920"/>
            <a:chOff x="0" y="0"/>
            <a:chExt cx="1676520" cy="1447920"/>
          </a:xfrm>
        </p:grpSpPr>
        <p:sp>
          <p:nvSpPr>
            <p:cNvPr id="261" name=""/>
            <p:cNvSpPr/>
            <p:nvPr/>
          </p:nvSpPr>
          <p:spPr>
            <a:xfrm flipV="1">
              <a:off x="186120" y="0"/>
              <a:ext cx="0" cy="144792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0" y="180000"/>
              <a:ext cx="1676520" cy="108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619760" y="4876920"/>
            <a:ext cx="2057400" cy="1828800"/>
            <a:chOff x="7619760" y="4876920"/>
            <a:chExt cx="2057400" cy="1828800"/>
          </a:xfrm>
        </p:grpSpPr>
        <p:sp>
          <p:nvSpPr>
            <p:cNvPr id="264" name=""/>
            <p:cNvSpPr/>
            <p:nvPr/>
          </p:nvSpPr>
          <p:spPr>
            <a:xfrm>
              <a:off x="9448920" y="4876920"/>
              <a:ext cx="0" cy="182880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619760" y="6477120"/>
              <a:ext cx="2057400" cy="14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962520" y="1219320"/>
            <a:ext cx="5438520" cy="75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840880" y="5867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  <a:ea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114440" y="4568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(инерционный) вариант 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ансового плана на 2002-2004 гг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1523880"/>
            <a:ext cx="8089920" cy="46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н в основном в соответствии с заявленными Правительством РФ направления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ласти налоговой политик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я долго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ритетами бюджетных расход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 учетом изменений, предлагаемых объединением “Яблоко”; </a:t>
            </a: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 проекту бюджета на 2002 год и изменений </a:t>
            </a: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ежбюджетных отношений в 2003-2004 год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ответствии с альтернативным финансовым планом предлагается в 2002-2004 годах решить следующие проблем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ратить долг Российской Федерации в целях ослабления “долговой удавки” и добиться экономии на процентных расхода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ить проведение военной, судебной и социальной рефор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ершить налоговую реформу и минимизировать ее негативные последствия для региональных бюдже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2680" y="304920"/>
            <a:ext cx="1293840" cy="1109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appCV05" descr=""/>
          <p:cNvPicPr/>
          <p:nvPr/>
        </p:nvPicPr>
        <p:blipFill>
          <a:blip r:embed="rId1"/>
          <a:stretch/>
        </p:blipFill>
        <p:spPr>
          <a:xfrm>
            <a:off x="382680" y="380880"/>
            <a:ext cx="1217520" cy="90504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0" y="0"/>
            <a:ext cx="1676520" cy="1447920"/>
            <a:chOff x="0" y="0"/>
            <a:chExt cx="1676520" cy="1447920"/>
          </a:xfrm>
        </p:grpSpPr>
        <p:sp>
          <p:nvSpPr>
            <p:cNvPr id="273" name=""/>
            <p:cNvSpPr/>
            <p:nvPr/>
          </p:nvSpPr>
          <p:spPr>
            <a:xfrm flipV="1">
              <a:off x="186120" y="0"/>
              <a:ext cx="0" cy="144792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0" y="180000"/>
              <a:ext cx="1676520" cy="108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619760" y="4876920"/>
            <a:ext cx="2057400" cy="1828800"/>
            <a:chOff x="7619760" y="4876920"/>
            <a:chExt cx="2057400" cy="1828800"/>
          </a:xfrm>
        </p:grpSpPr>
        <p:sp>
          <p:nvSpPr>
            <p:cNvPr id="276" name=""/>
            <p:cNvSpPr/>
            <p:nvPr/>
          </p:nvSpPr>
          <p:spPr>
            <a:xfrm>
              <a:off x="9448920" y="4876920"/>
              <a:ext cx="0" cy="182880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619760" y="6477120"/>
              <a:ext cx="2057400" cy="14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62520" y="1219320"/>
            <a:ext cx="5438520" cy="75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840880" y="5867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  <a:ea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менения в доходной части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едерального бюджета на 2002-2004 годы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676520" y="1600200"/>
          <a:ext cx="7464240" cy="445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00200"/>
                    <a:ext cx="746424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382680" y="304920"/>
            <a:ext cx="1293840" cy="1109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appCV05" descr=""/>
          <p:cNvPicPr/>
          <p:nvPr/>
        </p:nvPicPr>
        <p:blipFill>
          <a:blip r:embed="rId3"/>
          <a:stretch/>
        </p:blipFill>
        <p:spPr>
          <a:xfrm>
            <a:off x="382680" y="380880"/>
            <a:ext cx="1217520" cy="90504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0" y="0"/>
            <a:ext cx="1676520" cy="1447920"/>
            <a:chOff x="0" y="0"/>
            <a:chExt cx="1676520" cy="1447920"/>
          </a:xfrm>
        </p:grpSpPr>
        <p:sp>
          <p:nvSpPr>
            <p:cNvPr id="286" name=""/>
            <p:cNvSpPr/>
            <p:nvPr/>
          </p:nvSpPr>
          <p:spPr>
            <a:xfrm flipV="1">
              <a:off x="186120" y="0"/>
              <a:ext cx="0" cy="144792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0" y="180000"/>
              <a:ext cx="1676520" cy="108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7619760" y="4876920"/>
            <a:ext cx="2057400" cy="1828800"/>
            <a:chOff x="7619760" y="4876920"/>
            <a:chExt cx="2057400" cy="1828800"/>
          </a:xfrm>
        </p:grpSpPr>
        <p:sp>
          <p:nvSpPr>
            <p:cNvPr id="289" name=""/>
            <p:cNvSpPr/>
            <p:nvPr/>
          </p:nvSpPr>
          <p:spPr>
            <a:xfrm>
              <a:off x="9448920" y="4876920"/>
              <a:ext cx="0" cy="182880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619760" y="6477120"/>
              <a:ext cx="2057400" cy="14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962520" y="1371600"/>
            <a:ext cx="5438520" cy="76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840880" y="5867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  <a:ea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66720" y="533520"/>
            <a:ext cx="4343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2133720"/>
            <a:ext cx="80899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дел 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едложения объединения “Яблоко”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проектам бюджетов на 2000 и 2001 годы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тенные в правительственном вариант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едерального бюджета на 2002 г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дел 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зменения, которые необходимо учесть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бюджете на 2002 г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дел 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едложения объединения “Яблоко” по изменению финансового плана, а также корректировки в основные направления налоговой и бюджетной политики Правительства Российской Федерации на 2002-2004 год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304920"/>
            <a:ext cx="1293840" cy="1109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ppCV05" descr=""/>
          <p:cNvPicPr/>
          <p:nvPr/>
        </p:nvPicPr>
        <p:blipFill>
          <a:blip r:embed="rId1"/>
          <a:stretch/>
        </p:blipFill>
        <p:spPr>
          <a:xfrm>
            <a:off x="382680" y="380880"/>
            <a:ext cx="1217520" cy="90504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0" y="0"/>
            <a:ext cx="1676520" cy="1447920"/>
            <a:chOff x="0" y="0"/>
            <a:chExt cx="1676520" cy="1447920"/>
          </a:xfrm>
        </p:grpSpPr>
        <p:sp>
          <p:nvSpPr>
            <p:cNvPr id="61" name=""/>
            <p:cNvSpPr/>
            <p:nvPr/>
          </p:nvSpPr>
          <p:spPr>
            <a:xfrm flipV="1">
              <a:off x="186120" y="0"/>
              <a:ext cx="0" cy="144792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0" y="180000"/>
              <a:ext cx="1676520" cy="108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7619760" y="4876920"/>
            <a:ext cx="2057400" cy="1828800"/>
            <a:chOff x="7619760" y="4876920"/>
            <a:chExt cx="2057400" cy="1828800"/>
          </a:xfrm>
        </p:grpSpPr>
        <p:sp>
          <p:nvSpPr>
            <p:cNvPr id="64" name=""/>
            <p:cNvSpPr/>
            <p:nvPr/>
          </p:nvSpPr>
          <p:spPr>
            <a:xfrm>
              <a:off x="9448920" y="4876920"/>
              <a:ext cx="0" cy="182880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7619760" y="6477120"/>
              <a:ext cx="2057400" cy="14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962520" y="1371600"/>
            <a:ext cx="5438520" cy="76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58320" y="5867280"/>
            <a:ext cx="18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3E73-B205-4052-9B3E-4601298047E2}" type="slidenum">
              <a:rPr b="1" lang="en-US" sz="2800" spc="-1" strike="noStrike">
                <a:solidFill>
                  <a:srgbClr val="ffcc99"/>
                </a:solidFill>
                <a:latin typeface="Arial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7467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Второй вариант финансового плана </a:t>
            </a:r>
            <a:br>
              <a:rPr sz="24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(с корректировкой основных направлений налоговой и бюджетной политики)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Arial"/>
              </a:rPr>
              <a:t>на 2002-2004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76520" y="1828800"/>
            <a:ext cx="767700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лагаем в 2003-2004 годах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сти следующие измене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налоговой полити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ной Правительством РФ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ить налогообложения недр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едвижим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налоговую амнистию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ить поступление доходов от государственных унитарных предприят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ить регрессию шкалы по исчислению единого социального нал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2680" y="304920"/>
            <a:ext cx="1293840" cy="1109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appCV05" descr=""/>
          <p:cNvPicPr/>
          <p:nvPr/>
        </p:nvPicPr>
        <p:blipFill>
          <a:blip r:embed="rId1"/>
          <a:stretch/>
        </p:blipFill>
        <p:spPr>
          <a:xfrm>
            <a:off x="382680" y="380880"/>
            <a:ext cx="1217520" cy="90504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0" y="0"/>
            <a:ext cx="1676520" cy="1447920"/>
            <a:chOff x="0" y="0"/>
            <a:chExt cx="1676520" cy="1447920"/>
          </a:xfrm>
        </p:grpSpPr>
        <p:sp>
          <p:nvSpPr>
            <p:cNvPr id="298" name=""/>
            <p:cNvSpPr/>
            <p:nvPr/>
          </p:nvSpPr>
          <p:spPr>
            <a:xfrm flipV="1">
              <a:off x="186120" y="0"/>
              <a:ext cx="0" cy="144792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0" y="180000"/>
              <a:ext cx="1676520" cy="108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619760" y="4876920"/>
            <a:ext cx="2057400" cy="1828800"/>
            <a:chOff x="7619760" y="4876920"/>
            <a:chExt cx="2057400" cy="1828800"/>
          </a:xfrm>
        </p:grpSpPr>
        <p:sp>
          <p:nvSpPr>
            <p:cNvPr id="301" name=""/>
            <p:cNvSpPr/>
            <p:nvPr/>
          </p:nvSpPr>
          <p:spPr>
            <a:xfrm>
              <a:off x="9448920" y="4876920"/>
              <a:ext cx="0" cy="182880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7619760" y="6477120"/>
              <a:ext cx="2057400" cy="14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962520" y="1371600"/>
            <a:ext cx="5438520" cy="76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840880" y="5867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  <a:ea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38480" y="45684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логообложение малого бизн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54360" y="1600200"/>
            <a:ext cx="8051760" cy="42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ддержки малого бизнеса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 после отмены льгот по налогу на прибыль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динение “ЯБЛОКО” предлаг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низить федеральные ставки единого налога, 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зимаемого в связи с применением упрощенной системы налогообложения, учета и отчет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1,33% при исчислении налога по валовой выруч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2,67% при исчислении налога по доход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езультате потери федерального бюджет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ксимум составя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,7 млрд. рублей в 2003 году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,9 млрд. рублей в 2004 го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2680" y="304920"/>
            <a:ext cx="1293840" cy="1109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appCV05" descr=""/>
          <p:cNvPicPr/>
          <p:nvPr/>
        </p:nvPicPr>
        <p:blipFill>
          <a:blip r:embed="rId1"/>
          <a:stretch/>
        </p:blipFill>
        <p:spPr>
          <a:xfrm>
            <a:off x="382680" y="380880"/>
            <a:ext cx="1217520" cy="90504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0" y="0"/>
            <a:ext cx="1676520" cy="1447920"/>
            <a:chOff x="0" y="0"/>
            <a:chExt cx="1676520" cy="1447920"/>
          </a:xfrm>
        </p:grpSpPr>
        <p:sp>
          <p:nvSpPr>
            <p:cNvPr id="310" name=""/>
            <p:cNvSpPr/>
            <p:nvPr/>
          </p:nvSpPr>
          <p:spPr>
            <a:xfrm flipV="1">
              <a:off x="186120" y="0"/>
              <a:ext cx="0" cy="144792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0" y="180000"/>
              <a:ext cx="1676520" cy="108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619760" y="4876920"/>
            <a:ext cx="2057400" cy="1828800"/>
            <a:chOff x="7619760" y="4876920"/>
            <a:chExt cx="2057400" cy="1828800"/>
          </a:xfrm>
        </p:grpSpPr>
        <p:sp>
          <p:nvSpPr>
            <p:cNvPr id="313" name=""/>
            <p:cNvSpPr/>
            <p:nvPr/>
          </p:nvSpPr>
          <p:spPr>
            <a:xfrm>
              <a:off x="9448920" y="4876920"/>
              <a:ext cx="0" cy="182880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619760" y="6477120"/>
              <a:ext cx="2057400" cy="14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038480" y="1143000"/>
            <a:ext cx="5438880" cy="76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40880" y="5867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  <a:ea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11560" y="456840"/>
            <a:ext cx="759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менение доходов федерального бюджета в 2003-2004 год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7759800" cy="45021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82680" y="304920"/>
            <a:ext cx="1293840" cy="1109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appCV05" descr=""/>
          <p:cNvPicPr/>
          <p:nvPr/>
        </p:nvPicPr>
        <p:blipFill>
          <a:blip r:embed="rId2"/>
          <a:stretch/>
        </p:blipFill>
        <p:spPr>
          <a:xfrm>
            <a:off x="382680" y="380880"/>
            <a:ext cx="1217520" cy="90504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0" y="0"/>
            <a:ext cx="1676520" cy="1447920"/>
            <a:chOff x="0" y="0"/>
            <a:chExt cx="1676520" cy="1447920"/>
          </a:xfrm>
        </p:grpSpPr>
        <p:sp>
          <p:nvSpPr>
            <p:cNvPr id="322" name=""/>
            <p:cNvSpPr/>
            <p:nvPr/>
          </p:nvSpPr>
          <p:spPr>
            <a:xfrm flipV="1">
              <a:off x="186120" y="0"/>
              <a:ext cx="0" cy="144792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0" y="180000"/>
              <a:ext cx="1676520" cy="108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7619760" y="4876920"/>
            <a:ext cx="2057400" cy="1828800"/>
            <a:chOff x="7619760" y="4876920"/>
            <a:chExt cx="2057400" cy="1828800"/>
          </a:xfrm>
        </p:grpSpPr>
        <p:sp>
          <p:nvSpPr>
            <p:cNvPr id="325" name=""/>
            <p:cNvSpPr/>
            <p:nvPr/>
          </p:nvSpPr>
          <p:spPr>
            <a:xfrm>
              <a:off x="9448920" y="4876920"/>
              <a:ext cx="0" cy="182880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7619760" y="6477120"/>
              <a:ext cx="2057400" cy="14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962520" y="1295280"/>
            <a:ext cx="5438520" cy="76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840880" y="5867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  <a:ea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11560" y="304560"/>
            <a:ext cx="759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Arial"/>
              </a:rPr>
              <a:t>Второй вариант финансового плана </a:t>
            </a:r>
            <a:br>
              <a:rPr sz="24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(с корректировкой основных направлений налоговой и бюджетной политики)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Arial"/>
              </a:rPr>
              <a:t>на 2002-2004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55160" cy="4810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82680" y="304920"/>
            <a:ext cx="1293840" cy="1109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appCV05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217880" cy="90504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0" y="0"/>
            <a:ext cx="1676520" cy="1447920"/>
            <a:chOff x="0" y="0"/>
            <a:chExt cx="1676520" cy="1447920"/>
          </a:xfrm>
        </p:grpSpPr>
        <p:sp>
          <p:nvSpPr>
            <p:cNvPr id="334" name=""/>
            <p:cNvSpPr/>
            <p:nvPr/>
          </p:nvSpPr>
          <p:spPr>
            <a:xfrm flipV="1">
              <a:off x="186120" y="0"/>
              <a:ext cx="0" cy="144792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0" y="180000"/>
              <a:ext cx="1676520" cy="108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7619760" y="4876920"/>
            <a:ext cx="2057400" cy="1828800"/>
            <a:chOff x="7619760" y="4876920"/>
            <a:chExt cx="2057400" cy="1828800"/>
          </a:xfrm>
        </p:grpSpPr>
        <p:sp>
          <p:nvSpPr>
            <p:cNvPr id="337" name=""/>
            <p:cNvSpPr/>
            <p:nvPr/>
          </p:nvSpPr>
          <p:spPr>
            <a:xfrm>
              <a:off x="9448920" y="4876920"/>
              <a:ext cx="0" cy="182880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619760" y="6477120"/>
              <a:ext cx="2057400" cy="14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200400" y="1371600"/>
            <a:ext cx="6200640" cy="76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40880" y="5867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  <a:ea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0"/>
            <a:ext cx="10055160" cy="6705720"/>
            <a:chOff x="0" y="0"/>
            <a:chExt cx="10055160" cy="6705720"/>
          </a:xfrm>
        </p:grpSpPr>
        <p:sp>
          <p:nvSpPr>
            <p:cNvPr id="69" name=""/>
            <p:cNvSpPr/>
            <p:nvPr/>
          </p:nvSpPr>
          <p:spPr>
            <a:xfrm>
              <a:off x="382680" y="304920"/>
              <a:ext cx="1293840" cy="11095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appCV05" descr=""/>
            <p:cNvPicPr/>
            <p:nvPr/>
          </p:nvPicPr>
          <p:blipFill>
            <a:blip r:embed="rId1"/>
            <a:stretch/>
          </p:blipFill>
          <p:spPr>
            <a:xfrm>
              <a:off x="382680" y="380880"/>
              <a:ext cx="1217520" cy="9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" name=""/>
            <p:cNvGrpSpPr/>
            <p:nvPr/>
          </p:nvGrpSpPr>
          <p:grpSpPr>
            <a:xfrm>
              <a:off x="0" y="0"/>
              <a:ext cx="1676520" cy="1447920"/>
              <a:chOff x="0" y="0"/>
              <a:chExt cx="1676520" cy="144792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186120" y="0"/>
                <a:ext cx="0" cy="144792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0" y="180000"/>
                <a:ext cx="1676520" cy="108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619760" y="4876920"/>
              <a:ext cx="2057400" cy="1828800"/>
              <a:chOff x="7619760" y="4876920"/>
              <a:chExt cx="2057400" cy="1828800"/>
            </a:xfrm>
          </p:grpSpPr>
          <p:sp>
            <p:nvSpPr>
              <p:cNvPr id="75" name=""/>
              <p:cNvSpPr/>
              <p:nvPr/>
            </p:nvSpPr>
            <p:spPr>
              <a:xfrm>
                <a:off x="9448920" y="4876920"/>
                <a:ext cx="0" cy="182880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7619760" y="6477120"/>
                <a:ext cx="2057400" cy="144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3962520" y="1371600"/>
              <a:ext cx="543852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fcc99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58320" y="5867280"/>
              <a:ext cx="189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9560858-29DB-4EB4-8150-66F1D115E12D}" type="slidenum">
                <a:rPr b="1" lang="en-US" sz="2800" spc="-1" strike="noStrike">
                  <a:solidFill>
                    <a:srgbClr val="ffcc99"/>
                  </a:solidFill>
                  <a:latin typeface="Arial"/>
                  <a:ea typeface="Arial"/>
                </a:rPr>
                <a:t>&lt;number&gt;</a:t>
              </a:fld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9" name=""/>
          <p:cNvGraphicFramePr/>
          <p:nvPr/>
        </p:nvGraphicFramePr>
        <p:xfrm>
          <a:off x="684360" y="1828800"/>
          <a:ext cx="8537400" cy="378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828800"/>
                    <a:ext cx="8537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85840" y="45720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едложения Объединения «ЯБЛОКО»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 проекту бюджета –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14479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DL"/>
                <a:ea typeface="Times New Roman"/>
              </a:rPr>
              <a:t>млрд.рубле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1676520" cy="1447920"/>
            <a:chOff x="0" y="0"/>
            <a:chExt cx="1676520" cy="1447920"/>
          </a:xfrm>
        </p:grpSpPr>
        <p:sp>
          <p:nvSpPr>
            <p:cNvPr id="84" name=""/>
            <p:cNvSpPr/>
            <p:nvPr/>
          </p:nvSpPr>
          <p:spPr>
            <a:xfrm>
              <a:off x="380880" y="304920"/>
              <a:ext cx="1295640" cy="11095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appCV05" descr=""/>
            <p:cNvPicPr/>
            <p:nvPr/>
          </p:nvPicPr>
          <p:blipFill>
            <a:blip r:embed="rId1"/>
            <a:stretch/>
          </p:blipFill>
          <p:spPr>
            <a:xfrm>
              <a:off x="380880" y="380880"/>
              <a:ext cx="1219320" cy="9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" name=""/>
            <p:cNvGrpSpPr/>
            <p:nvPr/>
          </p:nvGrpSpPr>
          <p:grpSpPr>
            <a:xfrm>
              <a:off x="0" y="0"/>
              <a:ext cx="1676520" cy="1447920"/>
              <a:chOff x="0" y="0"/>
              <a:chExt cx="1676520" cy="1447920"/>
            </a:xfrm>
          </p:grpSpPr>
          <p:sp>
            <p:nvSpPr>
              <p:cNvPr id="87" name=""/>
              <p:cNvSpPr/>
              <p:nvPr/>
            </p:nvSpPr>
            <p:spPr>
              <a:xfrm flipV="1">
                <a:off x="186120" y="0"/>
                <a:ext cx="0" cy="144792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0" y="180000"/>
                <a:ext cx="1676520" cy="108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7619760" y="4876920"/>
            <a:ext cx="2057400" cy="1828800"/>
            <a:chOff x="7619760" y="4876920"/>
            <a:chExt cx="2057400" cy="1828800"/>
          </a:xfrm>
        </p:grpSpPr>
        <p:sp>
          <p:nvSpPr>
            <p:cNvPr id="90" name=""/>
            <p:cNvSpPr/>
            <p:nvPr/>
          </p:nvSpPr>
          <p:spPr>
            <a:xfrm>
              <a:off x="9448920" y="4876920"/>
              <a:ext cx="0" cy="182880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7619760" y="6477120"/>
              <a:ext cx="2057400" cy="14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048120" y="1219320"/>
            <a:ext cx="6351480" cy="75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58320" y="5867280"/>
            <a:ext cx="18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ED53-C8B4-425D-A009-BA7767FF7065}" type="slidenum">
              <a:rPr b="1" lang="en-US" sz="2800" spc="-1" strike="noStrike">
                <a:solidFill>
                  <a:srgbClr val="ffcc99"/>
                </a:solidFill>
                <a:latin typeface="Arial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3880" y="1523880"/>
          <a:ext cx="7239240" cy="4800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523880"/>
                    <a:ext cx="7239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362320" y="457200"/>
            <a:ext cx="716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олнительные доходы бюджет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авительственн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е и в варианте Объединения «ЯБЛОКО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96080" y="1219320"/>
            <a:ext cx="838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DL"/>
                <a:ea typeface="Times New Roman"/>
              </a:rPr>
              <a:t>млрд.рублей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85840" y="-76320"/>
            <a:ext cx="5791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нципы формирования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екта федерального бюджета на 2002 г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914400"/>
            <a:ext cx="754380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ъединение “ЯБЛОКО” в основном поддерживает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правления бюджетной политики Правительства РФ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лижайшие год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ще в 1999 году нами была отмечена необходимость реализа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альтернативном федеральном бюджете на 2000 год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дующих мероприятий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9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е налоговой политик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9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кращение налоговых льго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мена экономически необоснованных и неэффективных льгот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9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тановка роста государственного долга, улучшение его структуры и снижение стоимости его обслуживан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9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нтрация бюджетных средств на приоритетных направления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циональная безопасность, образование, судебная система, повышение заработной платы в бюджетной сфер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9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бходимость погашения накопленной кредиторской задолженност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9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дание бюджету открытости и прозрачности, в том числе детализация расходов бюджета до экономических статей бюджетной классифика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2680" y="304920"/>
            <a:ext cx="1293840" cy="1109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ppCV05" descr=""/>
          <p:cNvPicPr/>
          <p:nvPr/>
        </p:nvPicPr>
        <p:blipFill>
          <a:blip r:embed="rId1"/>
          <a:stretch/>
        </p:blipFill>
        <p:spPr>
          <a:xfrm>
            <a:off x="382680" y="380880"/>
            <a:ext cx="1217520" cy="90504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0" y="0"/>
            <a:ext cx="1676520" cy="1447920"/>
            <a:chOff x="0" y="0"/>
            <a:chExt cx="1676520" cy="1447920"/>
          </a:xfrm>
        </p:grpSpPr>
        <p:sp>
          <p:nvSpPr>
            <p:cNvPr id="103" name=""/>
            <p:cNvSpPr/>
            <p:nvPr/>
          </p:nvSpPr>
          <p:spPr>
            <a:xfrm flipV="1">
              <a:off x="186120" y="0"/>
              <a:ext cx="0" cy="144792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0" y="180000"/>
              <a:ext cx="1676520" cy="108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619760" y="4876920"/>
            <a:ext cx="2057400" cy="1828800"/>
            <a:chOff x="7619760" y="4876920"/>
            <a:chExt cx="2057400" cy="1828800"/>
          </a:xfrm>
        </p:grpSpPr>
        <p:sp>
          <p:nvSpPr>
            <p:cNvPr id="106" name=""/>
            <p:cNvSpPr/>
            <p:nvPr/>
          </p:nvSpPr>
          <p:spPr>
            <a:xfrm>
              <a:off x="9448920" y="4876920"/>
              <a:ext cx="0" cy="182880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619760" y="6477120"/>
              <a:ext cx="2057400" cy="14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962520" y="763560"/>
            <a:ext cx="5715000" cy="74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8320" y="5867280"/>
            <a:ext cx="18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A656-0CE4-4727-A186-0010670202FC}" type="slidenum">
              <a:rPr b="1" lang="en-US" sz="2800" spc="-1" strike="noStrike">
                <a:solidFill>
                  <a:srgbClr val="ffcc99"/>
                </a:solidFill>
                <a:latin typeface="Arial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54864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явленные задачи и принципы хотя бы частично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шли свое отражение в правительственном варианте федерального бюджета на 2002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95680" y="304560"/>
            <a:ext cx="5105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менение налоговой поли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2680" y="304920"/>
            <a:ext cx="1293840" cy="1109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ppCV05" descr=""/>
          <p:cNvPicPr/>
          <p:nvPr/>
        </p:nvPicPr>
        <p:blipFill>
          <a:blip r:embed="rId1"/>
          <a:stretch/>
        </p:blipFill>
        <p:spPr>
          <a:xfrm>
            <a:off x="382680" y="380880"/>
            <a:ext cx="1217520" cy="90504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0" y="0"/>
            <a:ext cx="1676520" cy="1447920"/>
            <a:chOff x="0" y="0"/>
            <a:chExt cx="1676520" cy="1447920"/>
          </a:xfrm>
        </p:grpSpPr>
        <p:sp>
          <p:nvSpPr>
            <p:cNvPr id="115" name=""/>
            <p:cNvSpPr/>
            <p:nvPr/>
          </p:nvSpPr>
          <p:spPr>
            <a:xfrm flipV="1">
              <a:off x="186120" y="0"/>
              <a:ext cx="0" cy="144792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0" y="180000"/>
              <a:ext cx="1676520" cy="108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619760" y="4876920"/>
            <a:ext cx="2057400" cy="1828800"/>
            <a:chOff x="7619760" y="4876920"/>
            <a:chExt cx="2057400" cy="1828800"/>
          </a:xfrm>
        </p:grpSpPr>
        <p:sp>
          <p:nvSpPr>
            <p:cNvPr id="118" name=""/>
            <p:cNvSpPr/>
            <p:nvPr/>
          </p:nvSpPr>
          <p:spPr>
            <a:xfrm>
              <a:off x="9448920" y="4876920"/>
              <a:ext cx="0" cy="182880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619760" y="6477120"/>
              <a:ext cx="2057400" cy="14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495680" y="762120"/>
            <a:ext cx="5029200" cy="75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58320" y="5867280"/>
            <a:ext cx="18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31C2-9089-4FBD-BC11-67A7FA9BA3F1}" type="slidenum">
              <a:rPr b="1" lang="en-US" sz="2800" spc="-1" strike="noStrike">
                <a:solidFill>
                  <a:srgbClr val="ffcc99"/>
                </a:solidFill>
                <a:latin typeface="Arial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209680" y="876240"/>
          <a:ext cx="6705720" cy="5505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876240"/>
                    <a:ext cx="670572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2680" y="304920"/>
            <a:ext cx="1293840" cy="1109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appCV05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217880" cy="90504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0" y="0"/>
            <a:ext cx="1676520" cy="1447920"/>
            <a:chOff x="0" y="0"/>
            <a:chExt cx="1676520" cy="1447920"/>
          </a:xfrm>
        </p:grpSpPr>
        <p:sp>
          <p:nvSpPr>
            <p:cNvPr id="127" name=""/>
            <p:cNvSpPr/>
            <p:nvPr/>
          </p:nvSpPr>
          <p:spPr>
            <a:xfrm flipV="1">
              <a:off x="186120" y="0"/>
              <a:ext cx="0" cy="144792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0" y="180000"/>
              <a:ext cx="1676520" cy="108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619760" y="4876920"/>
            <a:ext cx="2057400" cy="1828800"/>
            <a:chOff x="7619760" y="4876920"/>
            <a:chExt cx="2057400" cy="1828800"/>
          </a:xfrm>
        </p:grpSpPr>
        <p:sp>
          <p:nvSpPr>
            <p:cNvPr id="130" name=""/>
            <p:cNvSpPr/>
            <p:nvPr/>
          </p:nvSpPr>
          <p:spPr>
            <a:xfrm>
              <a:off x="9448920" y="4876920"/>
              <a:ext cx="0" cy="182880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619760" y="6477120"/>
              <a:ext cx="2057400" cy="14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8841240" y="586728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  <a:ea typeface="Arial"/>
              </a:rPr>
              <a:t>6</a:t>
            </a:r>
            <a:r>
              <a:rPr b="1" lang="ru-RU" sz="2800" spc="-1" strike="noStrike">
                <a:solidFill>
                  <a:srgbClr val="ffcc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304920"/>
            <a:ext cx="5105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менение налоговой поли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905120" y="1219320"/>
          <a:ext cx="7010280" cy="5070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219320"/>
                    <a:ext cx="7010280" cy="50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4495680" y="838080"/>
            <a:ext cx="5029200" cy="76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90760" y="5331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идание бюджету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ткрытости и прозрачн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523880"/>
            <a:ext cx="8089920" cy="48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ct val="90000"/>
              </a:lnSpc>
              <a:spcAft>
                <a:spcPts val="751"/>
              </a:spcAft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цип прозрачности бюджета должен получить более широкое распростран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90000"/>
              </a:lnSpc>
              <a:spcAft>
                <a:spcPts val="675"/>
              </a:spcAft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ую очередь необходимо в 2002 год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4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ить в бюджет приложение с подробной и полной структурой профицита, который является важнейшей частью бюджета и раскрывает направление финансовых поток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4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о указать суммы остатков бюджетных средст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ублевых и валютных счетах бюджета на начало и конец 2002 год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4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ить прозрачную процедуру формирования финансового резерва с указанием на то, что его образуют все неиспользуемые остатки федерального бюджета на 1 января 2002 года и все дополнительные доход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4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ксте закона о федеральном бюджете утвердить конкретные суммы или пропорции использования финансового резерва по всем направления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0"/>
            <a:ext cx="9677160" cy="6705720"/>
            <a:chOff x="0" y="0"/>
            <a:chExt cx="9677160" cy="6705720"/>
          </a:xfrm>
        </p:grpSpPr>
        <p:sp>
          <p:nvSpPr>
            <p:cNvPr id="140" name=""/>
            <p:cNvSpPr/>
            <p:nvPr/>
          </p:nvSpPr>
          <p:spPr>
            <a:xfrm>
              <a:off x="382680" y="304920"/>
              <a:ext cx="1293840" cy="11095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appCV05" descr=""/>
            <p:cNvPicPr/>
            <p:nvPr/>
          </p:nvPicPr>
          <p:blipFill>
            <a:blip r:embed="rId1"/>
            <a:stretch/>
          </p:blipFill>
          <p:spPr>
            <a:xfrm>
              <a:off x="382680" y="380880"/>
              <a:ext cx="1217520" cy="9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"/>
            <p:cNvGrpSpPr/>
            <p:nvPr/>
          </p:nvGrpSpPr>
          <p:grpSpPr>
            <a:xfrm>
              <a:off x="0" y="0"/>
              <a:ext cx="1676520" cy="1447920"/>
              <a:chOff x="0" y="0"/>
              <a:chExt cx="1676520" cy="1447920"/>
            </a:xfrm>
          </p:grpSpPr>
          <p:sp>
            <p:nvSpPr>
              <p:cNvPr id="143" name=""/>
              <p:cNvSpPr/>
              <p:nvPr/>
            </p:nvSpPr>
            <p:spPr>
              <a:xfrm flipV="1">
                <a:off x="186120" y="0"/>
                <a:ext cx="0" cy="144792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0" y="180000"/>
                <a:ext cx="1676520" cy="108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7619760" y="4876920"/>
              <a:ext cx="2057400" cy="1828800"/>
              <a:chOff x="7619760" y="4876920"/>
              <a:chExt cx="2057400" cy="1828800"/>
            </a:xfrm>
          </p:grpSpPr>
          <p:sp>
            <p:nvSpPr>
              <p:cNvPr id="146" name=""/>
              <p:cNvSpPr/>
              <p:nvPr/>
            </p:nvSpPr>
            <p:spPr>
              <a:xfrm>
                <a:off x="9448920" y="4876920"/>
                <a:ext cx="0" cy="182880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7619760" y="6477120"/>
                <a:ext cx="2057400" cy="144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962520" y="1371600"/>
              <a:ext cx="543852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fcc99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17200" y="5867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99"/>
                  </a:solidFill>
                  <a:latin typeface="Arial"/>
                  <a:ea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19720" y="60912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лагаемые поправки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 федеральному бюджету на 2002 г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2362320"/>
            <a:ext cx="8007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spcAft>
                <a:spcPts val="159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ения в доходной ча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Aft>
                <a:spcPts val="159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ения в межбюджетных отношения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Aft>
                <a:spcPts val="159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ения в расходной част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Aft>
                <a:spcPts val="159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ложения по управлению профицитом федерального бюджет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0"/>
            <a:ext cx="9677160" cy="6705720"/>
            <a:chOff x="0" y="0"/>
            <a:chExt cx="9677160" cy="6705720"/>
          </a:xfrm>
        </p:grpSpPr>
        <p:sp>
          <p:nvSpPr>
            <p:cNvPr id="153" name=""/>
            <p:cNvSpPr/>
            <p:nvPr/>
          </p:nvSpPr>
          <p:spPr>
            <a:xfrm>
              <a:off x="382680" y="304920"/>
              <a:ext cx="1293840" cy="11095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appCV05" descr=""/>
            <p:cNvPicPr/>
            <p:nvPr/>
          </p:nvPicPr>
          <p:blipFill>
            <a:blip r:embed="rId1"/>
            <a:stretch/>
          </p:blipFill>
          <p:spPr>
            <a:xfrm>
              <a:off x="382680" y="380880"/>
              <a:ext cx="1217520" cy="9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"/>
            <p:cNvGrpSpPr/>
            <p:nvPr/>
          </p:nvGrpSpPr>
          <p:grpSpPr>
            <a:xfrm>
              <a:off x="0" y="0"/>
              <a:ext cx="1676520" cy="1447920"/>
              <a:chOff x="0" y="0"/>
              <a:chExt cx="1676520" cy="1447920"/>
            </a:xfrm>
          </p:grpSpPr>
          <p:sp>
            <p:nvSpPr>
              <p:cNvPr id="156" name=""/>
              <p:cNvSpPr/>
              <p:nvPr/>
            </p:nvSpPr>
            <p:spPr>
              <a:xfrm flipV="1">
                <a:off x="186120" y="0"/>
                <a:ext cx="0" cy="144792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0" y="180000"/>
                <a:ext cx="1676520" cy="108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7619760" y="4876920"/>
              <a:ext cx="2057400" cy="1828800"/>
              <a:chOff x="7619760" y="4876920"/>
              <a:chExt cx="2057400" cy="1828800"/>
            </a:xfrm>
          </p:grpSpPr>
          <p:sp>
            <p:nvSpPr>
              <p:cNvPr id="159" name=""/>
              <p:cNvSpPr/>
              <p:nvPr/>
            </p:nvSpPr>
            <p:spPr>
              <a:xfrm>
                <a:off x="9448920" y="4876920"/>
                <a:ext cx="0" cy="182880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7619760" y="6477120"/>
                <a:ext cx="2057400" cy="144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962520" y="1371600"/>
              <a:ext cx="543852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fcc99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917200" y="5867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99"/>
                  </a:solidFill>
                  <a:latin typeface="Arial"/>
                  <a:ea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9T07:03:12Z</dcterms:created>
  <dc:creator>Клокова Н.Г.</dc:creator>
  <dc:description/>
  <dc:language>en-US</dc:language>
  <cp:lastModifiedBy>Server</cp:lastModifiedBy>
  <cp:lastPrinted>2001-09-26T15:18:04Z</cp:lastPrinted>
  <dcterms:modified xsi:type="dcterms:W3CDTF">2001-09-27T12:02:56Z</dcterms:modified>
  <cp:revision>326</cp:revision>
  <dc:subject/>
  <dc:title>ОСНОВНЫЕ ПРЕДЛОЖЕНИЯ по проекту федерального бюджета на 2001 го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WINDOWS\Profiles\Саша\Мои документы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